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F779B9-3C5C-475D-9D6F-7E7EE37258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1889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8288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1889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41889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120" y="18288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6680" y="18288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1889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120" y="41889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6680" y="41889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8288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88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89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8288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41889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8288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89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68680" y="501480"/>
            <a:ext cx="37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Linux Forum / Embedded Linux Conferenc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116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monstration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240" y="112536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er Nam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84800" y="6904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Quick Boot Up Ma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080" y="112536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omas Brown / Brown Co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72680" y="6004080"/>
            <a:ext cx="348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patch was sent to LKML in Sep. 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78280" y="1987560"/>
            <a:ext cx="352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eliminates the unnecessary process 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ring boot up time….. See the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de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0" y="1971720"/>
            <a:ext cx="28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prisingly quick cold boot up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" y="6006960"/>
            <a:ext cx="270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wer PC 4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2MB NAND Flash Memory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19800" y="2924280"/>
            <a:ext cx="2390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main (argc,argv)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* Here is an example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a (_INTQUICK, 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foo 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kill_kernel (IMMEDIAT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/* It is bad way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kill_kernel (AFT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068640"/>
            <a:ext cx="5329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 Black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Satoru Ueda</cp:lastModifiedBy>
  <cp:revision>0</cp:revision>
  <dc:subject/>
  <dc:title>スライド 1</dc:title>
</cp:coreProperties>
</file>